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D16-27D7-42D5-9D06-B733A263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F8E-52E5-44E7-A09B-63627553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ADD-0052-4D0E-94BE-6BC61B74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861-A73B-495D-AB59-CF1A1ADC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FF4-3663-4833-BE34-6F5EA81E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F0C-9EC1-4B5D-9A84-5285BF6C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B8D-8455-41C2-8CE5-74098974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059-B8E2-4AB6-A143-68EDA47D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591-3382-452D-9593-35CE26A0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EE1-7918-47D1-862B-77F7771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857-0C26-49AD-895F-5D32BCA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86D-6CD5-461D-A56E-1D9E92C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4F68-4702-4AA3-B0F2-59EF2CEFB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Reassessment9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Reassessment10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Reassessment1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Reassessment1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assessment1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Reassessment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Reassessment3.jpg"/>
          <p:cNvPicPr/>
          <p:nvPr/>
        </p:nvPicPr>
        <p:blipFill>
          <a:blip r:embed="rId1"/>
          <a:stretch/>
        </p:blipFill>
        <p:spPr>
          <a:xfrm>
            <a:off x="752400" y="82872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Reassessment4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Reassessment5.jpg"/>
          <p:cNvPicPr/>
          <p:nvPr/>
        </p:nvPicPr>
        <p:blipFill>
          <a:blip r:embed="rId1"/>
          <a:stretch/>
        </p:blipFill>
        <p:spPr>
          <a:xfrm>
            <a:off x="757080" y="819000"/>
            <a:ext cx="762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Reassessment6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Reassessment7.jpg"/>
          <p:cNvPicPr/>
          <p:nvPr/>
        </p:nvPicPr>
        <p:blipFill>
          <a:blip r:embed="rId1"/>
          <a:stretch/>
        </p:blipFill>
        <p:spPr>
          <a:xfrm>
            <a:off x="781200" y="838080"/>
            <a:ext cx="75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Reassessment8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3:08Z</dcterms:created>
  <dc:creator>zcui</dc:creator>
  <dc:description/>
  <dc:language>en-US</dc:language>
  <cp:lastModifiedBy>rbalne</cp:lastModifiedBy>
  <dcterms:modified xsi:type="dcterms:W3CDTF">2009-08-12T13:57:34Z</dcterms:modified>
  <cp:revision>1</cp:revision>
  <dc:subject/>
  <dc:title>TRAC</dc:title>
</cp:coreProperties>
</file>